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428D-F934-42F6-A7D8-F58DB79C0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ically, whilst phylogenetics is riddled with controversies, phylo schema designs are relatively uncontrovers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C96-8CE9-4622-86DB-524FB804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41D-7C2E-41DF-9E8B-F90B0172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A14-4092-4D31-A386-60BD5FA7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076-A3B6-4669-B035-B94A0AFA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59B-E28C-4425-B6B7-8215E592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A951-8896-43A4-9BB3-06A258FB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584-931E-4250-852A-D486A2A3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3D96-1706-4239-B991-46415180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988E-7BA0-49FB-B8A4-41210CB0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54D-717C-46D8-9C01-5396A9C4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6FD-CF6A-4988-907A-7A34FCE2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2C39-04C0-425A-A34D-A576A1EF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421C-1C8C-461D-8C30-1DDDF2D4CC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for evolutionary scienc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8a4b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HMI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until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ational Center for Biomedical Ontologies 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ill Sans"/>
              </a:rPr>
              <a:t>(after Jun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tatus: ne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s more community input!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QL Query suppor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QL func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no links to 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riginally intended for model organism mutant phenoty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aptable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ased on 2003 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s extensio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Diederich 1997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mixed in with genetics modu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 production use at Fly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key tab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ntity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anatom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attribut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PATO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valu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free text alternative to abov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tage_i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from e.g. dev stag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phenotype_comparis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Attribut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s (qualities): </a:t>
            </a: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values (stat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sical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ight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heavy, ligh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or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red, magent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rph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hap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branched, cleft, coil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ze: 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large, small, hypertrophi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mporal (process)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uration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long, sho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requency: 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frequent, infrequ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bining entity terms and PATO ter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tity-attribute structured anno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Entity term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PATO te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tail fin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ventraliz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kidney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11143-431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ertrophied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5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midface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18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1800" spc="-1" strike="noStrike">
                <a:solidFill>
                  <a:srgbClr val="800000"/>
                </a:solidFill>
                <a:latin typeface="Gill Sans"/>
              </a:rPr>
              <a:t>hypoplastic</a:t>
            </a: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PATO:000064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1520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153280" y="449568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315200" y="5257800"/>
            <a:ext cx="868320" cy="824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153280" y="5257800"/>
            <a:ext cx="868320" cy="824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6248520" y="3657240"/>
            <a:ext cx="685800" cy="2286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5943600" y="4876920"/>
            <a:ext cx="1371600" cy="457200"/>
          </a:xfrm>
          <a:prstGeom prst="line">
            <a:avLst/>
          </a:prstGeom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tensions to simple EAV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w phenotype XML schema being developed for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measurements from attribut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osing entity ter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lue/state se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ve sta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riation in space and ti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s the ‘A’ superfluou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ternative to absence/numb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and NCB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ional Center for Biomedical Ont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riving biological project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otype-phenotype-diseas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ol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annotation (EAV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 counterpart to 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ic metamodel (RDFS/OW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ado relational view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v module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s part of chado is sta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eelllll, the meta-schema is still evolving…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ylogeny and phenotype untes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re input requir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lexity of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may need to evolve a lo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lot of software still to be writte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ank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3276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ha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ave Emme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an Letovsk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hengqiang Sh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glei Zhou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ubrey de Gre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cott Ca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Lincoln Ste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rk Gibs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eili Zha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lin Wi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ichard Bruskiewitz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llen Da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ill Gelbar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rry Rub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uzanna Lew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1981080"/>
            <a:ext cx="3276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orgios Gko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nte Wester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abian Neuh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John Day-Rich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chel Drysd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ichael Ashbur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key concep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do selected module tou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genome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ontologies and termin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ylogen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evolutionary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character based descri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: attribute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76040" y="25750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emental slides follow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72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</a:t>
            </a:r>
            <a:r>
              <a:rPr b="0" lang="en-US" sz="4400" spc="-1" strike="noStrike">
                <a:solidFill>
                  <a:srgbClr val="e3ebf1"/>
                </a:solidFill>
                <a:latin typeface="American Typewriter"/>
              </a:rPr>
              <a:t>feature_relationship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tab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lationships between pairs of featu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hat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graphs constrained by S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ex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all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polypeptid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some) </a:t>
            </a:r>
            <a:r>
              <a:rPr b="0" lang="en-US" sz="2800" spc="-1" strike="noStrike">
                <a:solidFill>
                  <a:srgbClr val="f0e500"/>
                </a:solidFill>
                <a:latin typeface="Gill Sans"/>
              </a:rPr>
              <a:t>mR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rganism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ltra-simp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(only!) ent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organism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actually: tax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CBI taxon compat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unique(genus, spec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ch featur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ust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 linked to an organ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rain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hat about evolution?…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43000" y="128520"/>
            <a:ext cx="723888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atus: mature, not yet in production u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riginal desig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ichard Bruskiewitz (IRRI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dapter from Aaron Mackey’s desig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concept: tre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have a single parent (except root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ranch 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 belongs to one 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be linked to other chado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des can have data attached (e.g. statistic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: SQL func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iews and SQL functions can greatly enhance queryabi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mplemented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height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depth(phylonode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O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is_monophyletic(phylonode_id[ ], outgroup_i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make trees of anything (within reason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axonom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eatures of any type in S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able: phylonode_featur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lypeptides (protei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r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inks to alignments,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: what is it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 Database schema for molecular bi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imarily model 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ional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BMS-independ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ostgreSQL, Sybase, Oracle, DB2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as XML for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hadoXM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mes “for free”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rt of GMO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eroperates with Apollo, GBrowse, Turnkey, 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 use at various MODs and genome cent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: open ques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roversial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optional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phylonode_relationship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DAGs!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uery efficiency vs redundanc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sted set re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ttaching characters (phenotype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hing in place at pres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nking phylogeny to phen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ylonode already linked to fea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features have sequence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link phylonode to 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ature of link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ssentia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at have we miss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environ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module: statu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 basic EAV model sufficient fo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organism mutant pheno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ystemat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sion requir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ederich 199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anaging multiple vers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tibility lay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ftware integr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lecular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 via Bio::Tree in bioper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aracter-based phylogen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XUS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y/hard??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key concep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t federat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reign key relations between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aration of concer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ix-n-matc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ric and extensib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es ontologies and ‘cv’s for ty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Normalisa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ver efficienc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unity &amp; open sour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 modul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al (dbxref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(ontologie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ub (bibliographic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d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omai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sequence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(genomics)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mpanalys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press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A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ti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eno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0e5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0e500"/>
                </a:solidFill>
                <a:latin typeface="Gill Sans"/>
              </a:rPr>
              <a:t>phylogen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e3ebf1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bf1"/>
                </a:solidFill>
                <a:latin typeface="Gill Sans"/>
              </a:rPr>
              <a:t>organis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equence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me key tabl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lo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featurepro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lays well with GFF3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eature types come from </a:t>
            </a:r>
            <a:r>
              <a:rPr b="0" lang="en-US" sz="3200" spc="-1" strike="noStrike">
                <a:solidFill>
                  <a:srgbClr val="ff6fcf"/>
                </a:solidFill>
                <a:latin typeface="Gill Sans"/>
              </a:rPr>
              <a:t>SO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(sequence ontolog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precise representation of some aspect of biologic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4648320"/>
            <a:ext cx="1371600" cy="5331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6095880"/>
            <a:ext cx="2286000" cy="533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mmati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0800" y="3048120"/>
            <a:ext cx="20574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sense org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3352680"/>
            <a:ext cx="1676520" cy="838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dis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391520" y="3657600"/>
            <a:ext cx="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028840" y="4267080"/>
            <a:ext cx="1676520" cy="6098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91320" y="525744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76400" y="38703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5486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_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30280" y="449568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v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ies and controlled vocabularies (‘</a:t>
            </a:r>
            <a:r>
              <a:rPr b="0" lang="en-US" sz="3200" spc="-1" strike="noStrike">
                <a:solidFill>
                  <a:srgbClr val="f0e500"/>
                </a:solidFill>
                <a:latin typeface="Gill Sans"/>
              </a:rPr>
              <a:t>cv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’s) are ubiquitious in Chad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key tabl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(a term, or class in an ontology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term_relationship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merican Typewriter"/>
              </a:rPr>
              <a:t>cv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an represent any ontology in OB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patible with RDF/RDF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ylogeny modu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y tabl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tre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as one parent; branchlength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pr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tensible tag-value pairs; eg statistic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so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fea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an make trees from any feature typ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merican Typewrit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merican Typewriter"/>
              </a:rPr>
              <a:t>phylonode_organ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772400" y="0"/>
          <a:ext cx="1371600" cy="146052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loge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3T22:45:27Z</dcterms:created>
  <dc:creator>Chris Mungall</dc:creator>
  <dc:description/>
  <dc:language>en-US</dc:language>
  <cp:lastModifiedBy>Chris Mungall</cp:lastModifiedBy>
  <dcterms:modified xsi:type="dcterms:W3CDTF">2006-01-20T13:15:22Z</dcterms:modified>
  <cp:revision>119</cp:revision>
  <dc:subject/>
  <dc:title>The Evolution of Chado</dc:title>
</cp:coreProperties>
</file>